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5.png" ContentType="image/png"/>
  <Override PartName="/ppt/media/image43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3126-DD7B-40D9-9587-7F9482DAF876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9E29-18B2-4F13-9393-A416A0D847EB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DEC5-1C09-4B04-8E6A-8CE552761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0E32-C809-4869-8F43-B7210462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FBB4-5405-4E92-B0FD-428619660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CE78-B25C-45E4-B70A-BED97549E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D528-4082-4544-BD02-637847C9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2399-2600-467F-993B-0131179E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88F7-701A-4F69-858E-1D9175FA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CA41-7EBB-4738-976A-46317CF3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FEDD-5973-480B-B67D-0000C5EA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B119-0EFA-4532-A9A5-B6E104CC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4C14-7FDD-42C5-A0E0-978FEC67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9AB7-4621-4888-AB25-177EBBA76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2459-90F2-4AD1-9020-FBA32AF97EA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google.com.mx/imgres?imgurl=http://www.galeriade.com/Charo/data/media/6/Lobo1-.jpg&amp;imgrefurl=http://www.galeriade.com/Charo/details.php%3Fimage_id%3D406%26sessionid%3De6bc84fd4126bd3f012b0f37b08aa5f6&amp;usg=___hvJ3qnjnoCzaS02wdE0zph7iRY=&amp;h=880&amp;w=694&amp;sz=233&amp;hl=es&amp;start=13&amp;zoom=1&amp;itbs=1&amp;tbnid=rrxFH1opofkRcM:&amp;tbnh=146&amp;tbnw=115&amp;prev=/search%3Fq%3Dlobo%2Bblanco%26hl%3Des%26biw%3D763%26bih%3D398%26gbv%3D2%26tbm%3Disch&amp;ei=hhfyTcP7LcGftwfmiq2SAw" TargetMode="External"/><Relationship Id="rId3" Type="http://schemas.openxmlformats.org/officeDocument/2006/relationships/image" Target="../media/image48.jpeg"/><Relationship Id="rId4" Type="http://schemas.openxmlformats.org/officeDocument/2006/relationships/hyperlink" Target="http://www.google.com.mx/imgres?imgurl=http://www.woomascotas.com/wp-content/uploads/2009/01/mascotas-conejos.jpg&amp;imgrefurl=http://www.woomascotas.com/2009/01/27/animales-de-granja-como-mascotas-el-conejo/&amp;usg=__Vb9rhE8fFrRjeCIp7_61o9Gc9uo=&amp;h=380&amp;w=400&amp;sz=75&amp;hl=es&amp;start=5&amp;zoom=1&amp;itbs=1&amp;tbnid=NN93LbNqtqNHOM:&amp;tbnh=118&amp;tbnw=124&amp;prev=/search%3Fq%3Dconejo%26hl%3Des%26biw%3D763%26bih%3D398%26gbv%3D2%26tbm%3Disch&amp;ei=oRfyTY3QMM21tweZ4b3nAg" TargetMode="External"/><Relationship Id="rId5" Type="http://schemas.openxmlformats.org/officeDocument/2006/relationships/image" Target="../media/image49.jpeg"/><Relationship Id="rId6" Type="http://schemas.openxmlformats.org/officeDocument/2006/relationships/image" Target="../media/image50.jpeg"/><Relationship Id="rId7" Type="http://schemas.openxmlformats.org/officeDocument/2006/relationships/image" Target="../media/image5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45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LOQUE 2: LECCION 2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 nutrición de los seres vivos: diversidad y adap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http://t1.gstatic.com/images?q=tbn:ANd9GcQSDtrHWQgYfOrzCzMYOdGrs7zLZTdJYPjFsk1XV5xVMHeJyP6Qsw"/>
          <p:cNvPicPr/>
          <p:nvPr/>
        </p:nvPicPr>
        <p:blipFill>
          <a:blip r:embed="rId2"/>
          <a:stretch/>
        </p:blipFill>
        <p:spPr>
          <a:xfrm rot="19222800">
            <a:off x="1979280" y="3084120"/>
            <a:ext cx="1942920" cy="1461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http://t0.gstatic.com/images?q=tbn:ANd9GcQ6dUckExlj7CEZ1UdwIZCZjN4jXpNfBUbQxbxSsGynW_wwgWGh"/>
          <p:cNvPicPr/>
          <p:nvPr/>
        </p:nvPicPr>
        <p:blipFill>
          <a:blip r:embed="rId3"/>
          <a:stretch/>
        </p:blipFill>
        <p:spPr>
          <a:xfrm rot="20142600">
            <a:off x="2779200" y="3998520"/>
            <a:ext cx="1602000" cy="128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t0.gstatic.com/images?q=tbn:ANd9GcT4dMap68pzLkaU7BysWVJw69uZpuANWvxeI7_KO_Z3Po_usjYL"/>
          <p:cNvPicPr/>
          <p:nvPr/>
        </p:nvPicPr>
        <p:blipFill>
          <a:blip r:embed="rId4"/>
          <a:stretch/>
        </p:blipFill>
        <p:spPr>
          <a:xfrm>
            <a:off x="4037040" y="2970360"/>
            <a:ext cx="1506600" cy="1131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http://www.santi.com.es/imagenes/image/cebra.bmp"/>
          <p:cNvPicPr/>
          <p:nvPr/>
        </p:nvPicPr>
        <p:blipFill>
          <a:blip r:embed="rId5"/>
          <a:stretch/>
        </p:blipFill>
        <p:spPr>
          <a:xfrm rot="463800">
            <a:off x="2436480" y="4835520"/>
            <a:ext cx="2171520" cy="1449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http://t3.gstatic.com/images?q=tbn:ANd9GcTZW3OFvgdHFDudFdNh7Hz2qrMUjy-cKsSKmU0FLyS9Qiu9jjcNNA"/>
          <p:cNvPicPr/>
          <p:nvPr/>
        </p:nvPicPr>
        <p:blipFill>
          <a:blip r:embed="rId6"/>
          <a:stretch/>
        </p:blipFill>
        <p:spPr>
          <a:xfrm>
            <a:off x="4265640" y="4113360"/>
            <a:ext cx="1371600" cy="1190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http://t1.gstatic.com/images?q=tbn:ANd9GcRwfY5G6mQKurTsKUkAuS3hYjR95flR2Lcl71w9CxLMA7JfFzkX"/>
          <p:cNvPicPr/>
          <p:nvPr/>
        </p:nvPicPr>
        <p:blipFill>
          <a:blip r:embed="rId7"/>
          <a:stretch/>
        </p:blipFill>
        <p:spPr>
          <a:xfrm rot="2251200">
            <a:off x="3271320" y="2408400"/>
            <a:ext cx="1143000" cy="799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http://www.proprofs.com/games/puzzle/sliding/upload/446575_1292244772.jpg"/>
          <p:cNvPicPr/>
          <p:nvPr/>
        </p:nvPicPr>
        <p:blipFill>
          <a:blip r:embed="rId8"/>
          <a:stretch/>
        </p:blipFill>
        <p:spPr>
          <a:xfrm>
            <a:off x="4494240" y="5256360"/>
            <a:ext cx="1257120" cy="1257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http://t2.gstatic.com/images?q=tbn:ANd9GcRA1aw2LfbimluwLzjJaGpg5L1tEA2WM935_Mn02jup7TqpuiK5"/>
          <p:cNvPicPr/>
          <p:nvPr/>
        </p:nvPicPr>
        <p:blipFill>
          <a:blip r:embed="rId9"/>
          <a:stretch/>
        </p:blipFill>
        <p:spPr>
          <a:xfrm rot="5400000">
            <a:off x="1563840" y="4040280"/>
            <a:ext cx="1257120" cy="946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http://t0.gstatic.com/images?q=tbn:ANd9GcRf-3JXQDYOpCSrsm_i6SBV-pIgAEPucAqquDs7sW7PXOUzFhsr1w"/>
          <p:cNvPicPr/>
          <p:nvPr/>
        </p:nvPicPr>
        <p:blipFill>
          <a:blip r:embed="rId10"/>
          <a:stretch/>
        </p:blipFill>
        <p:spPr>
          <a:xfrm rot="15286800">
            <a:off x="1660320" y="5232240"/>
            <a:ext cx="1257120" cy="8478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4"/>
          <p:cNvSpPr/>
          <p:nvPr/>
        </p:nvSpPr>
        <p:spPr>
          <a:xfrm>
            <a:off x="6372360" y="4437000"/>
            <a:ext cx="21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6588000" y="4365720"/>
            <a:ext cx="25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15 CuadroTexto"/>
          <p:cNvSpPr/>
          <p:nvPr/>
        </p:nvSpPr>
        <p:spPr>
          <a:xfrm>
            <a:off x="5857920" y="4157640"/>
            <a:ext cx="32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artínez Duarte Luz El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artínez Yavuy Blanca Ixch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artínez Cruz Sandra Pa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éndez Meza Caro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os anim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Son pluricelulares y viven tanto en ambientes terrestres o acuáticos y se clasifican por su alimentación en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Fitófagos                    ( comen vegetales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Herbívoros                   (comen pasto y plantas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http://www.forodefotos.com/attachments/fotos-de-animales-salvajes/2829d1220896047-fondos-de-pantalla-de-conejo-fondos-de-pantalla-de-conejo.jpg"/>
          <p:cNvPicPr/>
          <p:nvPr/>
        </p:nvPicPr>
        <p:blipFill>
          <a:blip r:embed="rId2"/>
          <a:stretch/>
        </p:blipFill>
        <p:spPr>
          <a:xfrm>
            <a:off x="2843280" y="3213000"/>
            <a:ext cx="1181160" cy="1440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http://www.mascotas.org/wp-content/uploads/jirafa1.jpg"/>
          <p:cNvPicPr/>
          <p:nvPr/>
        </p:nvPicPr>
        <p:blipFill>
          <a:blip r:embed="rId3"/>
          <a:stretch/>
        </p:blipFill>
        <p:spPr>
          <a:xfrm>
            <a:off x="2843280" y="4941720"/>
            <a:ext cx="1793880" cy="9986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Carnívoros                    ( comen carne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Omnívoros                    (comen carne y              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vegetales)     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Detritivoros                        (se alimentan de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materia orgánica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http://t0.gstatic.com/images?q=tbn:ANd9GcSgskTAzwtnpVgwehD_eSGoC2RWbOQmj0dUwV4Oq5DVer9C5VSM"/>
          <p:cNvPicPr/>
          <p:nvPr/>
        </p:nvPicPr>
        <p:blipFill>
          <a:blip r:embed="rId2"/>
          <a:stretch/>
        </p:blipFill>
        <p:spPr>
          <a:xfrm>
            <a:off x="2916360" y="549360"/>
            <a:ext cx="1871640" cy="1244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http://t1.gstatic.com/images?q=tbn:ANd9GcQQ57BN--lD-mllMx4qx2zP1VKkOYzmDJLNgJ8zPZ5iHnXQYPp8"/>
          <p:cNvPicPr/>
          <p:nvPr/>
        </p:nvPicPr>
        <p:blipFill>
          <a:blip r:embed="rId3"/>
          <a:stretch/>
        </p:blipFill>
        <p:spPr>
          <a:xfrm>
            <a:off x="2987640" y="2708280"/>
            <a:ext cx="1714680" cy="1290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http://galeon.hispavista.com/diviertete2000/img/lombriz"/>
          <p:cNvPicPr/>
          <p:nvPr/>
        </p:nvPicPr>
        <p:blipFill>
          <a:blip r:embed="rId4"/>
          <a:stretch/>
        </p:blipFill>
        <p:spPr>
          <a:xfrm>
            <a:off x="2771640" y="4508640"/>
            <a:ext cx="1828800" cy="13618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álisis de algunas adaptaciones en la nutrición de los seres vivos: la interacción 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predador - pr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predador: es cuando una especie se come a ot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sa: son los animales caz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r los depredado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http://t0.gstatic.com/images?q=tbn:ANd9GcSXHfVbKb5DX1duPos7g0f-GC1S9YvgiHmb_f6DI8L4g5l837duQQ"/>
          <p:cNvPicPr/>
          <p:nvPr/>
        </p:nvPicPr>
        <p:blipFill>
          <a:blip r:embed="rId2"/>
          <a:stretch/>
        </p:blipFill>
        <p:spPr>
          <a:xfrm>
            <a:off x="4356000" y="2997360"/>
            <a:ext cx="2160720" cy="1442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http://t0.gstatic.com/images?q=tbn:ANd9GcRWrxAmfPO9oslvWzFzPb0H4CTm7CWphgwW9BIzlkR600YzS9pt0A"/>
          <p:cNvPicPr/>
          <p:nvPr/>
        </p:nvPicPr>
        <p:blipFill>
          <a:blip r:embed="rId3"/>
          <a:stretch/>
        </p:blipFill>
        <p:spPr>
          <a:xfrm>
            <a:off x="971640" y="4292640"/>
            <a:ext cx="1288800" cy="15858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 no ocurre la adaptación entre los depredadores y presas una de las dos poblaciones se extinguirá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http://t2.gstatic.com/images?q=tbn:ANd9GcRpUy3TtMxydonXKFpk_9AEXdpo-lYPp7hIj7nc7LHSB9QS7XEV"/>
          <p:cNvPicPr/>
          <p:nvPr/>
        </p:nvPicPr>
        <p:blipFill>
          <a:blip r:embed="rId2"/>
          <a:stretch/>
        </p:blipFill>
        <p:spPr>
          <a:xfrm>
            <a:off x="2268360" y="2708280"/>
            <a:ext cx="4105440" cy="30891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Valoración de la importancia de la fotosíntesis como proceso de transformación de energía y como base de las cadenas alimentaría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Breve historia del descubrimiento de l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historia 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el siglo IV el filosofo Aristóteles creía que las plantas obtenían sus alimentos del suelo pero no era así, si no que los alimentos los obtenían de la naturale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http://t3.gstatic.com/images?q=tbn:ANd9GcT_r2tBfJWwcOU0M_KAW7wu1wyngKFbND2FkmctXN9f9Rk2MOK7"/>
          <p:cNvPicPr/>
          <p:nvPr/>
        </p:nvPicPr>
        <p:blipFill>
          <a:blip r:embed="rId2"/>
          <a:stretch/>
        </p:blipFill>
        <p:spPr>
          <a:xfrm>
            <a:off x="2195640" y="5084640"/>
            <a:ext cx="1655640" cy="1460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http://t2.gstatic.com/images?q=tbn:ANd9GcRH7_xBeiFfvPEoPwCjKWezc0QDrDS3Y9uu9t3FkIiMuwtwyy09"/>
          <p:cNvPicPr/>
          <p:nvPr/>
        </p:nvPicPr>
        <p:blipFill>
          <a:blip r:embed="rId3"/>
          <a:stretch/>
        </p:blipFill>
        <p:spPr>
          <a:xfrm>
            <a:off x="5724360" y="4797360"/>
            <a:ext cx="1252800" cy="1663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Lo que se sabe actualmente de la fotosíntesi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l proceso de la fotosíntesis 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uando la energía del sol llega 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a planta y con el dióxido d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arbono del aire y del agua q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Tomo el suelo, la planta elabo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Glucosa y oxigen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http://t2.gstatic.com/images?q=tbn:ANd9GcQMKOwDzrxxmaVEdPhQbRfkavlMNpnaOPI8qoxbV__iaADdpTTq"/>
          <p:cNvPicPr/>
          <p:nvPr/>
        </p:nvPicPr>
        <p:blipFill>
          <a:blip r:embed="rId2"/>
          <a:stretch/>
        </p:blipFill>
        <p:spPr>
          <a:xfrm>
            <a:off x="6443640" y="2060640"/>
            <a:ext cx="2112840" cy="352908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Qué pasa con la glucos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s una sustancia que diariamente ingieres al comer frutas o alimentos procesados endulzados con glucos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Manzan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Refresc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Naranj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http://t2.gstatic.com/images?q=tbn:ANd9GcSkmQaNpGSjaMdDN31YtzP6LrxkKA2KnZTFsEIuB8VNOtzV2bCB"/>
          <p:cNvPicPr/>
          <p:nvPr/>
        </p:nvPicPr>
        <p:blipFill>
          <a:blip r:embed="rId2"/>
          <a:stretch/>
        </p:blipFill>
        <p:spPr>
          <a:xfrm>
            <a:off x="5940360" y="4149720"/>
            <a:ext cx="2016360" cy="1060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http://t3.gstatic.com/images?q=tbn:ANd9GcRPcXKzctaw4Z95ncqfF9Xqrv9Q7sWbfK2huiAKrJUDQZRfEABOAg"/>
          <p:cNvPicPr/>
          <p:nvPr/>
        </p:nvPicPr>
        <p:blipFill>
          <a:blip r:embed="rId3"/>
          <a:stretch/>
        </p:blipFill>
        <p:spPr>
          <a:xfrm>
            <a:off x="2843280" y="328464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http://t2.gstatic.com/images?q=tbn:ANd9GcQOAEKbkQIccyxe5wK6ZW6s7gmIXKwhn1a6mDQHU6-obOAECxlh"/>
          <p:cNvPicPr/>
          <p:nvPr/>
        </p:nvPicPr>
        <p:blipFill>
          <a:blip r:embed="rId4"/>
          <a:stretch/>
        </p:blipFill>
        <p:spPr>
          <a:xfrm>
            <a:off x="2050920" y="5013360"/>
            <a:ext cx="1600200" cy="1203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La fotosíntesis y las redes alimenta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a glucosa como los nutrimentos que elaboran las plantas son materiales que contienen energía, los heterótrofos se alimentan de los autótrofos y obtienen materiales y energ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a red alimentaria incluye a todas especies animales y veget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http://t1.gstatic.com/images?q=tbn:ANd9GcTB7yBiP-KBDbxROpsIGuvt-lP8c8LgHVgMu8J5cGkUdaDqRjID5qLm5iC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143000" y="5214960"/>
            <a:ext cx="1095480" cy="13906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http://t3.gstatic.com/images?q=tbn:ANd9GcTGKGzQHuKi2vxHygPU7rESJKo3KFkulqMjIr9oHiurrO0dHtZMLSclPQ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071880" y="5357880"/>
            <a:ext cx="1181160" cy="1123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http://t2.gstatic.com/images?q=tbn:ANd9GcQNpBAnrqwe_8K-bZxfnD6rIumGI9zdKf7HZShOrPyvnT41fQjILE6-B8g"/>
          <p:cNvPicPr/>
          <p:nvPr/>
        </p:nvPicPr>
        <p:blipFill>
          <a:blip r:embed="rId6"/>
          <a:stretch/>
        </p:blipFill>
        <p:spPr>
          <a:xfrm>
            <a:off x="5000760" y="5214960"/>
            <a:ext cx="914400" cy="1219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http://t2.gstatic.com/images?q=tbn:ANd9GcQe_JW04Yg4GZkdFfKz0-3dpWELVMgrI8PCXJWBwz005lah9QbZLyevOw"/>
          <p:cNvPicPr/>
          <p:nvPr/>
        </p:nvPicPr>
        <p:blipFill>
          <a:blip r:embed="rId7"/>
          <a:stretch/>
        </p:blipFill>
        <p:spPr>
          <a:xfrm>
            <a:off x="6643800" y="5429160"/>
            <a:ext cx="981000" cy="1028880"/>
          </a:xfrm>
          <a:prstGeom prst="rect">
            <a:avLst/>
          </a:prstGeom>
          <a:ln w="0">
            <a:noFill/>
          </a:ln>
        </p:spPr>
      </p:pic>
      <p:cxnSp>
        <p:nvCxnSpPr>
          <p:cNvPr id="122" name="8 Conector recto de flecha"/>
          <p:cNvCxnSpPr/>
          <p:nvPr/>
        </p:nvCxnSpPr>
        <p:spPr>
          <a:xfrm>
            <a:off x="2357280" y="5857920"/>
            <a:ext cx="572400" cy="2160"/>
          </a:xfrm>
          <a:prstGeom prst="straightConnector1">
            <a:avLst/>
          </a:prstGeom>
          <a:ln w="50760">
            <a:solidFill>
              <a:srgbClr val="ff33cc"/>
            </a:solidFill>
            <a:miter/>
            <a:tailEnd len="med" type="arrow" w="med"/>
          </a:ln>
        </p:spPr>
      </p:cxnSp>
      <p:cxnSp>
        <p:nvCxnSpPr>
          <p:cNvPr id="123" name="9 Conector recto de flecha"/>
          <p:cNvCxnSpPr/>
          <p:nvPr/>
        </p:nvCxnSpPr>
        <p:spPr>
          <a:xfrm>
            <a:off x="4357440" y="5857920"/>
            <a:ext cx="572040" cy="2160"/>
          </a:xfrm>
          <a:prstGeom prst="straightConnector1">
            <a:avLst/>
          </a:prstGeom>
          <a:ln w="50760">
            <a:solidFill>
              <a:srgbClr val="ff33cc"/>
            </a:solidFill>
            <a:miter/>
            <a:tailEnd len="med" type="arrow" w="med"/>
          </a:ln>
        </p:spPr>
      </p:cxnSp>
      <p:cxnSp>
        <p:nvCxnSpPr>
          <p:cNvPr id="124" name="10 Conector recto de flecha"/>
          <p:cNvCxnSpPr/>
          <p:nvPr/>
        </p:nvCxnSpPr>
        <p:spPr>
          <a:xfrm>
            <a:off x="6000480" y="5857920"/>
            <a:ext cx="572040" cy="2160"/>
          </a:xfrm>
          <a:prstGeom prst="straightConnector1">
            <a:avLst/>
          </a:prstGeom>
          <a:ln w="50760">
            <a:solidFill>
              <a:srgbClr val="ff33cc"/>
            </a:solidFill>
            <a:miter/>
            <a:tailEnd len="med" type="arrow" w="med"/>
          </a:ln>
        </p:spPr>
      </p:cxnSp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a nutrición de los seres vivos: diversidad y adap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mparación de organismos heterótrofos y autótrof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nálisis de algunas adaptaciones en la nutrición de los seres vivos: la interacción depredador – pre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Valoración de la importancia de la fotosíntesis como proceso de transformación de energía y como base las cadenas alimenta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mparación de organismos Heterótrofos y Autótrof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son 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Heterótrofos: se alimentan de otros organism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utótrofos: utilizan la energía del sol para elaborar su propio aliment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http://t1.gstatic.com/images?q=tbn:ANd9GcQoPkxM09PszbAJeQU8PqwSXtfId3DuiaKjQ99xCaVblLJncKM2"/>
          <p:cNvPicPr/>
          <p:nvPr/>
        </p:nvPicPr>
        <p:blipFill>
          <a:blip r:embed="rId2"/>
          <a:stretch/>
        </p:blipFill>
        <p:spPr>
          <a:xfrm>
            <a:off x="3132000" y="2852640"/>
            <a:ext cx="3009960" cy="1300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http://t1.gstatic.com/images?q=tbn:ANd9GcSYvNr1ShIX6_V_FUaccq42XXmX31iB01xrROWQnIfWXBeF4QDa"/>
          <p:cNvPicPr/>
          <p:nvPr/>
        </p:nvPicPr>
        <p:blipFill>
          <a:blip r:embed="rId3"/>
          <a:stretch/>
        </p:blipFill>
        <p:spPr>
          <a:xfrm>
            <a:off x="3635280" y="5084640"/>
            <a:ext cx="1317600" cy="15462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920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nutrición de los cinco rei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Bacterias: autótrofas y heterótrof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tistas: hay autótrofas y heterótrof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ongos: todos son heterótrof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http://www.windows2universe.org/life/images/protista_sm.jpg"/>
          <p:cNvPicPr/>
          <p:nvPr/>
        </p:nvPicPr>
        <p:blipFill>
          <a:blip r:embed="rId2"/>
          <a:stretch/>
        </p:blipFill>
        <p:spPr>
          <a:xfrm>
            <a:off x="3635280" y="3500280"/>
            <a:ext cx="1600200" cy="1067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https://naturzientziak.wikispaces.com/file/view/hongos0001.jpg/75498313/hongos0001.jpg"/>
          <p:cNvPicPr/>
          <p:nvPr/>
        </p:nvPicPr>
        <p:blipFill>
          <a:blip r:embed="rId3"/>
          <a:stretch/>
        </p:blipFill>
        <p:spPr>
          <a:xfrm>
            <a:off x="3995640" y="5229360"/>
            <a:ext cx="1190880" cy="1250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ANd9GcTPlPMGV-cHWv6UwrDlVVGCEOApTTrvjh-OGqgEXIJl2Wl7OPj-RQ"/>
          <p:cNvPicPr/>
          <p:nvPr/>
        </p:nvPicPr>
        <p:blipFill>
          <a:blip r:embed="rId4"/>
          <a:stretch/>
        </p:blipFill>
        <p:spPr>
          <a:xfrm>
            <a:off x="3851280" y="1773360"/>
            <a:ext cx="1608120" cy="1234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23640" y="475920"/>
            <a:ext cx="83739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lantas: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a mayoría son autótrofas; unas cuantas especies son heterótrof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nimales: todos son heterótrofo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http://esjardineria.com/wp-content/uploads/2008/07/plantcaar2.jpg"/>
          <p:cNvPicPr/>
          <p:nvPr/>
        </p:nvPicPr>
        <p:blipFill>
          <a:blip r:embed="rId2"/>
          <a:stretch/>
        </p:blipFill>
        <p:spPr>
          <a:xfrm>
            <a:off x="3132000" y="1700280"/>
            <a:ext cx="2448000" cy="1834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http://t0.gstatic.com/images?q=tbn:ANd9GcQVvPAiirqm_p9zyVCFhoNNARneZzdNKh7IiNKzwCmiboTKa39E"/>
          <p:cNvPicPr/>
          <p:nvPr/>
        </p:nvPicPr>
        <p:blipFill>
          <a:blip r:embed="rId3"/>
          <a:stretch/>
        </p:blipFill>
        <p:spPr>
          <a:xfrm>
            <a:off x="3132000" y="4508640"/>
            <a:ext cx="2476800" cy="17589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1360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s bacteri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Qué son 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on organismos unicelul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bitan en el agua, en luga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úmedos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y bacterias autótrof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quimiosinteticas y fotosinté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que producen los nutrimiento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http://t3.gstatic.com/images?q=tbn:ANd9GcQcwC_kleP9GkUcO0hRPxxD6tae6dm8ucIwlsjD0WZLxg2XOBUV"/>
          <p:cNvPicPr/>
          <p:nvPr/>
        </p:nvPicPr>
        <p:blipFill>
          <a:blip r:embed="rId2"/>
          <a:stretch/>
        </p:blipFill>
        <p:spPr>
          <a:xfrm>
            <a:off x="6388200" y="1557360"/>
            <a:ext cx="2000160" cy="1584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http://t3.gstatic.com/images?q=tbn:ANd9GcQmGH4dZ1oIrPvdMzGZt5dslJs0M8YYZaf1gOyi4FaBZLLiBdX0"/>
          <p:cNvPicPr/>
          <p:nvPr/>
        </p:nvPicPr>
        <p:blipFill>
          <a:blip r:embed="rId3"/>
          <a:stretch/>
        </p:blipFill>
        <p:spPr>
          <a:xfrm>
            <a:off x="755640" y="4221000"/>
            <a:ext cx="1876320" cy="141156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136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os proti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on organismo unicelulares que viven en el agua y en lugares muy húme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Hay protistas depredadores como el paramecio y cierto tipos de amebas, que se alimentan de bacterias, levaduras y otros protistas qué viven en su medi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http://t2.gstatic.com/images?q=tbn:ANd9GcQfF_FKVWYWsoPnw0H2kIsXEJe-LoTXYvkFRc2tveQkxSQZSTz43A"/>
          <p:cNvPicPr/>
          <p:nvPr/>
        </p:nvPicPr>
        <p:blipFill>
          <a:blip r:embed="rId2"/>
          <a:stretch/>
        </p:blipFill>
        <p:spPr>
          <a:xfrm>
            <a:off x="2771640" y="2373480"/>
            <a:ext cx="2232000" cy="1123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ANd9GcTZmiUA3GkuJFXKkGBxQ3ZhgGt_MQ_UNj8O-awN47S9NpIMFBOOZg"/>
          <p:cNvPicPr/>
          <p:nvPr/>
        </p:nvPicPr>
        <p:blipFill>
          <a:blip r:embed="rId3"/>
          <a:stretch/>
        </p:blipFill>
        <p:spPr>
          <a:xfrm>
            <a:off x="6804000" y="4941720"/>
            <a:ext cx="1030320" cy="17560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os hong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mayoría son pluricelulares. Todos son heterótrofos unos son saprofito, parásitos y depredad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ANd9GcREL75DJb3r5EaXVkUnIhrbGwUWrQzxWbH4p_-sBD3-q7RxHXkP1Q"/>
          <p:cNvPicPr/>
          <p:nvPr/>
        </p:nvPicPr>
        <p:blipFill>
          <a:blip r:embed="rId1"/>
          <a:stretch/>
        </p:blipFill>
        <p:spPr>
          <a:xfrm>
            <a:off x="3059280" y="342900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as plan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Son pluricelulares, hay tanto acuáticas como terrestres la mayora son autótrofas fotosintéticas y habitan en los ecosistemas del planeta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Acuática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es-ES" sz="2900" spc="-1" strike="noStrike">
                <a:solidFill>
                  <a:srgbClr val="000000"/>
                </a:solidFill>
                <a:latin typeface="Arial"/>
              </a:rPr>
              <a:t>Terrestres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http://www.estanques.net/wp-content/uploads/2007/11/nimphaea.jpg"/>
          <p:cNvPicPr/>
          <p:nvPr/>
        </p:nvPicPr>
        <p:blipFill>
          <a:blip r:embed="rId2"/>
          <a:stretch/>
        </p:blipFill>
        <p:spPr>
          <a:xfrm>
            <a:off x="3132000" y="3392640"/>
            <a:ext cx="2232000" cy="1120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http://t2.gstatic.com/images?q=tbn:ANd9GcSLiYDd51ahOQRAXZvBgcNGjj-Ia8c8o2nhzzEujaWXTHJSHnaj"/>
          <p:cNvPicPr/>
          <p:nvPr/>
        </p:nvPicPr>
        <p:blipFill>
          <a:blip r:embed="rId3"/>
          <a:stretch/>
        </p:blipFill>
        <p:spPr>
          <a:xfrm>
            <a:off x="2268360" y="4941720"/>
            <a:ext cx="2232360" cy="12938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3T19:13:26Z</dcterms:created>
  <dc:creator>sandy</dc:creator>
  <dc:description/>
  <dc:language>en-US</dc:language>
  <cp:lastModifiedBy>usuario</cp:lastModifiedBy>
  <dcterms:modified xsi:type="dcterms:W3CDTF">2011-06-10T12:28:06Z</dcterms:modified>
  <cp:revision>10</cp:revision>
  <dc:subject/>
  <dc:title>La nutrición de los seres vivos: diversidad y adaptación</dc:title>
</cp:coreProperties>
</file>